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AD5F-8650-44DA-BD22-9D47FEAD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D70-CF6E-42D4-A855-9122A71E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7A9C-2B5C-4C19-81CB-BF52B11B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A1F7-5D10-4C00-BAEC-DD2617B2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114F-5D0F-43E9-948D-375AF291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DB2D-E0C5-4852-9624-AA8CE1CF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6659-ABA0-49E4-9511-C04B8CE1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7EE6-06F9-4383-B7DD-E861C0FE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E747-290B-4635-AF4C-5255B13C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9D59-3896-41CD-B102-39449478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1182-D3F7-4D50-8529-2E635564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131F-B011-46E3-92EE-1D83238B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35E3-6A0B-4C32-B11E-EEC2079F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DB4D-49B2-4CC1-94BB-137812FA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BA362-D81C-4232-B180-1B5549E4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27C4-05E1-48BB-B8C2-DE7976E3E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D346-F591-4345-9708-09B21BD1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9B89B-5AC7-4265-85B8-CF200C14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9B3AF-5ACE-454C-9598-53FF1273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396CA-D6FE-49E5-8CDF-F30AE16D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FA84-B091-4D95-A161-3C7F42CD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4ED3D-9E20-4815-9126-6BF7644F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252-F9D9-4C6F-82A1-B84586D0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64605-93C2-43F5-9AC1-EA5CE529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DD9B1-297F-47B6-BFC1-D429BCA9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9D743-4D01-4CE7-87A9-F9375652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CAA6C-48BF-4CC7-B7FB-05D0960A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4072C-1A3D-4C8C-998E-15E35AD6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33AC8-04AE-4A3B-AF85-4BE16D1B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3092F-4A1D-4EA2-858F-03475B33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5760D-B2EE-41EA-8439-1DB0079A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5DD9A-66B6-4A8A-A86E-AE225680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4D553-D3ED-46C6-9841-362104CE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480D-33CE-4FF6-A729-F16135A3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FAC94-FEB8-4B40-B8B9-AB471751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D79C5-432A-4095-8F0E-1AF82E3A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FAA27-5E88-410D-81EA-8EAC7F92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1E9CD-3397-463A-92F8-1E94EEFD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200E6-FAEB-42A9-9C47-0D5DC0EE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A87D6-D22E-4089-87F4-BAB731B5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28E8E-4806-4B8D-9CE3-52DF1103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00002-88E2-42BD-B4FC-26F7E656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277F6-F056-469E-91C4-B9A75F21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657FD-AD74-4D85-8EAB-5A7D8A7B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BBBC-8D19-4559-9564-D054A52D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CDC4C-4BA7-4D03-9356-474E1C37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58EEB-C437-4C47-9C33-A6DED46E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BCF73-B0D9-4434-9A9F-50660B6F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2B681-8EF1-4B8C-BA8A-D7452D45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A71F9-F659-49D9-BC5D-466F1E06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2E5DC-4E35-4C0E-9D18-C10ABB14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9C36A-CCB3-4E9F-9705-C83400B0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73B3F-B6FC-464A-B266-07550709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C8C1B-B450-4782-9B2B-F42FFE41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7399E-0C12-402A-94DE-0AD57F74F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EC8-8DFB-4C17-BE15-108D1FE6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DE58A-597D-452A-8078-923B3AEBC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D07A-F81B-41D4-9444-FF1F393A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4AC-5797-4842-A503-B32D2DAC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EFE1-1E2A-4393-8E54-C6B7FB54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ravougaonik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Pravougaonik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FFCD-0553-48C7-8163-1AE4FC5284A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Pravougaonik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Pravougaonik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rava linija spajanja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5881-896D-4D84-8759-8100BAFB89B0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Pravougaonik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Pravougaonik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7CAE-E0B1-4ED2-BFF4-7A42B90F16E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avougaonik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ravougaonik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EE5A-4847-46B3-9623-3A6B94EA2B0A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Pravougaonik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Pravougaonik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4D17-7613-4C76-A370-8FA32B3C7A0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2" descr="C:\Users\Selma Islamović\OneDrive\Radna površina\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Okvir za tekst 4"/>
          <p:cNvSpPr/>
          <p:nvPr/>
        </p:nvSpPr>
        <p:spPr>
          <a:xfrm>
            <a:off x="1571760" y="571680"/>
            <a:ext cx="564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000000"/>
                </a:solidFill>
                <a:latin typeface="Arial"/>
              </a:rPr>
              <a:t>POSTOJEĆI ZAKONSKI OKVI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Naslov 1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7321680" cy="8352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142920" y="1213920"/>
            <a:ext cx="78580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Prvi korak kada se želi ostvariti pravo na socijalnu pomoć je odlazak u </a:t>
            </a:r>
            <a:r>
              <a:rPr b="0" lang="hr-HR" sz="1600" spc="-1" strike="noStrike">
                <a:solidFill>
                  <a:srgbClr val="000000"/>
                </a:solidFill>
                <a:latin typeface="Trebuchet MS"/>
              </a:rPr>
              <a:t>lokalni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 nadležni Centar za socijalni rad (CZR). Dokumente koje je neophodno ponijeti u CZR za st</a:t>
            </a:r>
            <a:r>
              <a:rPr b="0" lang="hr-HR" sz="1600" spc="-1" strike="noStrike">
                <a:solidFill>
                  <a:srgbClr val="000000"/>
                </a:solidFill>
                <a:latin typeface="Trebuchet MS"/>
              </a:rPr>
              <a:t>i</a:t>
            </a: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canje određenih prava su različita u zavisnosti od prava koje se Zakonom može ostvariti</a:t>
            </a:r>
            <a:r>
              <a:rPr b="0" lang="hr-HR" sz="1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kon CZR i iskazane potrebe za kategorizacijom djeteta javljate se Vašem nadležnom pedijatru koji će Vam napisati uputnice za svakog specijalistu ljekara koji Vam treba izdati nalaz i mišljenje, a koje Vam stoji u zahtjevu ( to zavisi od dijagnoze kojem će Vas specijalisti uputiti ljekar),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Sljedeći korak koji trebaju roditelji znati da urade da bi se utvrdio stepen invalidnosti kod djeteta je da odu u Institut za medicinsko vještačenje. Institut obavlja poslove medicinskog vještačenja (vještačenje kojim se ocjenjuje definitivno stanje organizma zbog ostvarivanja prava u skladu sa zakonom) iz oblasti: socijalne zaštite, dječije i invalidske zaštite odnosno medicinsko vještačenje (fizičke onesposobljenosti) stupnja tjelesnog oštećenja, potreba tuđe pomoći i njege i ortopedskog dodatka za potrebe socijalne zaštite i boračko-invalidske zaštite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Važno je napomenuti da Institut ne odlučuje o pravima iz naprijed navedenih oblasti, već da u svome djelovanju donosi ocjenu, nalaz i mišljenje na osnovu kojeg nadležni organ odlučuje o ostvarivanju prava u skladu s pravnim propisima iz svoje nadležnosti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Naslov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7255080" cy="798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0" y="928800"/>
            <a:ext cx="814392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Zdravstvena zaštita, pr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ma Zakonu o zdravstvenoj zaštiti Federacije BiH je sistem društvenih, grupnih i individualnih mjera, usluga i aktivnosti za očuvanje i unapređenje zdravlja, sprečavanje bolesti, rano otkrivanje bolesti, blagovremeno liječenje, te zdravstvenu njegu i rehabilitaciju, kao i primjenu zdravstvenih tehnologij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oditelji djece s posebnim potrebama imaju pravo koristiti usluge Centra za mentalno zdravlje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Naslov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7255080" cy="909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-360" y="1071360"/>
            <a:ext cx="8072280" cy="53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Država u najboljem interesu sve djece obavezna je da obezbijedi obavezno pohađanje i završetak osnovnog i srednjeg obrazovanja u skladu sa mogućnostim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osna i Hercegovina usvojila je veći broj zakona i politika kojima svakom djetetu osigurava pravo na kvalitetno obrazovanje i jednake mogućnosti, ali način i kvaliteta njihove implementacije i dalje je upitan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13320"/>
            <a:ext cx="7238880" cy="442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499680"/>
            <a:ext cx="769608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kvirni zakon o predškolskom, osnovnoškolskom i srednj</a:t>
            </a:r>
            <a:r>
              <a:rPr b="0" lang="hr-HR" sz="2400" spc="-1" strike="noStrike">
                <a:solidFill>
                  <a:srgbClr val="000000"/>
                </a:solidFill>
                <a:latin typeface="Trebuchet MS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školskom obrazovanju propisuje zabranu diskriminacije koja oduzima pravo svakom djetetu na jednak pristup i mogućnost uključenja u odgoj i obrazovanje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brazovanje djece s posebnim odgojno-obrazovnim potrebama je od prioritetnog javnog interesa i sastavni je dio obrazovnog sistema što je definirano Zakonom o predškolskom odgoju i obrazovanju, Zakonom o osnovnom odgoju i obrazovanju i Zakonom o srednjem obrazov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ju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Naslov 1" descr=""/>
          <p:cNvPicPr/>
          <p:nvPr/>
        </p:nvPicPr>
        <p:blipFill>
          <a:blip r:embed="rId1"/>
          <a:stretch/>
        </p:blipFill>
        <p:spPr>
          <a:xfrm>
            <a:off x="450720" y="-146160"/>
            <a:ext cx="7255080" cy="8654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0" y="1142640"/>
            <a:ext cx="814392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ocjenu sposobnosti djece pri upisu u redovnu školu obavlja komisija sastavljena od pedagoga ili pedagoga-psihologa i nastavnika razredne nastav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čenici sa smetnjama i poteškoćama u razvoju upisuju se u redovnu školu na osnovu nalaza i mišljenja komisije koja je procijenila sposobnosti djeteta pri upisu u školu i rješenja o kategorizaciji djetet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Naslov 1" descr=""/>
          <p:cNvPicPr/>
          <p:nvPr/>
        </p:nvPicPr>
        <p:blipFill>
          <a:blip r:embed="rId1"/>
          <a:stretch/>
        </p:blipFill>
        <p:spPr>
          <a:xfrm>
            <a:off x="-6480" y="-115920"/>
            <a:ext cx="9017280" cy="835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"/>
          <p:cNvPicPr/>
          <p:nvPr/>
        </p:nvPicPr>
        <p:blipFill>
          <a:blip r:embed="rId2"/>
          <a:stretch/>
        </p:blipFill>
        <p:spPr>
          <a:xfrm>
            <a:off x="214200" y="785880"/>
            <a:ext cx="64296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Naslov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Kako bi dijete imalo cjelovitu potporu u svom ranom obrazovanju bitno je uspostaviti zajedništvo između roditelja i </a:t>
            </a:r>
            <a:r>
              <a:rPr b="0" lang="hr-HR" sz="1800" spc="-1" strike="noStrike">
                <a:solidFill>
                  <a:srgbClr val="000000"/>
                </a:solidFill>
                <a:latin typeface="Trebuchet MS"/>
              </a:rPr>
              <a:t>škol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, te kontinuiranu komunikaciju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rebuchet MS"/>
              </a:rPr>
              <a:t>P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artnerstvo između </a:t>
            </a:r>
            <a:r>
              <a:rPr b="0" lang="hr-HR" sz="1800" spc="-1" strike="noStrike">
                <a:solidFill>
                  <a:srgbClr val="000000"/>
                </a:solidFill>
                <a:latin typeface="Trebuchet MS"/>
              </a:rPr>
              <a:t>nastavnika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i roditelja jedan</a:t>
            </a:r>
            <a:r>
              <a:rPr b="0" lang="hr-HR" sz="1800" spc="-1" strike="noStrike">
                <a:solidFill>
                  <a:srgbClr val="000000"/>
                </a:solidFill>
                <a:latin typeface="Trebuchet MS"/>
              </a:rPr>
              <a:t> je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od najbitnijih razloga za uspješnu inkluziju djece s teškoćama u </a:t>
            </a:r>
            <a:r>
              <a:rPr b="0" lang="hr-HR" sz="1800" spc="-1" strike="noStrike">
                <a:solidFill>
                  <a:srgbClr val="000000"/>
                </a:solidFill>
                <a:latin typeface="Trebuchet MS"/>
              </a:rPr>
              <a:t>razvoju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 Partnerstvo se treba temeljiti na obostranoj volji i povjerenju. Roditelji i odgojitelji imaju isti cilj - dijete i njegov uspješan rast i razv</a:t>
            </a:r>
            <a:r>
              <a:rPr b="0" lang="hr-HR" sz="1800" spc="-1" strike="noStrike">
                <a:solidFill>
                  <a:srgbClr val="000000"/>
                </a:solidFill>
                <a:latin typeface="Trebuchet MS"/>
              </a:rPr>
              <a:t>oj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58" name="Slika 3" descr="https://ip.index.hr/remote/bucket.index.hr/b/index/images2/886cc93335366694d440d0c0e83c274b.jpg?width=765"/>
          <p:cNvPicPr/>
          <p:nvPr/>
        </p:nvPicPr>
        <p:blipFill>
          <a:blip r:embed="rId2"/>
          <a:stretch/>
        </p:blipFill>
        <p:spPr>
          <a:xfrm>
            <a:off x="0" y="0"/>
            <a:ext cx="82152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Okvir za tekst 4"/>
          <p:cNvSpPr/>
          <p:nvPr/>
        </p:nvSpPr>
        <p:spPr>
          <a:xfrm>
            <a:off x="2071800" y="64296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HVALA NA PAŽNJ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280"/>
            <a:ext cx="7238880" cy="51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642960"/>
            <a:ext cx="7238880" cy="58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etnaestogodišnja Marija Beribaka iz Vojkovića voli filmove, humorističke serije i kompjuterske igrice. Vesela je osoba i uvijek je spremna pomoći majci u kućnim poslovima. Voli da uči, ali do škole može doći samo uz pomoć svoje starije sestre Milice. Put do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škole, sestre opisuju i u svom filmu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s://youtu.be/2oPhdvOYqO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Naslov 1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213920"/>
            <a:ext cx="72388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Konvencija o pravima djete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Konvencija o pravima osoba sa invaliditet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Pravilnik o osnovnoškolskom odgoju i obrazovanju  učenika sa teškoćama u razvoju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Zakon o socijalnoj skrb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dodatni benefiti – produženi roditeljski dopust, vještačenje težine oštećenja zdravlja, dječiji doplata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Naslov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7255080" cy="1000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čl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an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1 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sigurava prava jednakosti svih ljudskih bića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0" y="2000160"/>
            <a:ext cx="8143920" cy="3592440"/>
          </a:xfrm>
          <a:prstGeom prst="rect">
            <a:avLst/>
          </a:prstGeom>
          <a:ln w="0">
            <a:noFill/>
          </a:ln>
        </p:spPr>
      </p:pic>
      <p:sp>
        <p:nvSpPr>
          <p:cNvPr id="231" name="Okvir za tekst 4"/>
          <p:cNvSpPr/>
          <p:nvPr/>
        </p:nvSpPr>
        <p:spPr>
          <a:xfrm>
            <a:off x="285840" y="542916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JEDNAKOST: pružiti ljudima istu st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AVEDNOST: pošteno je raspore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Naslov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Zbog čestih povreda prava djeteta Generalna skupština Ujedinjenih naroda  usvojila je “Konvenciju o pravima djeteta”, a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20. 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novembar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 1989. godine, 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se 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u cijelom  svijetu obilježava  </a:t>
            </a:r>
            <a:r>
              <a:rPr b="1" lang="vi-VN" sz="2600" spc="-1" strike="noStrike">
                <a:solidFill>
                  <a:srgbClr val="000000"/>
                </a:solidFill>
                <a:latin typeface="Arial"/>
              </a:rPr>
              <a:t>Međunarodni dan dječjih prava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, koji je potaknula 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o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rganizacija 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U</a:t>
            </a:r>
            <a:r>
              <a:rPr b="0" lang="vi-VN" sz="2600" spc="-1" strike="noStrike">
                <a:solidFill>
                  <a:srgbClr val="000000"/>
                </a:solidFill>
                <a:latin typeface="Arial"/>
              </a:rPr>
              <a:t>jedinjenih naroda.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Povelja ukazuje na njen smjer, a to je: “Čovječanstvo duguje djeci najbolje što ima.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Naslov 1" descr=""/>
          <p:cNvPicPr/>
          <p:nvPr/>
        </p:nvPicPr>
        <p:blipFill>
          <a:blip r:embed="rId1"/>
          <a:stretch/>
        </p:blipFill>
        <p:spPr>
          <a:xfrm>
            <a:off x="244440" y="133200"/>
            <a:ext cx="7461360" cy="6588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071360"/>
            <a:ext cx="7238880" cy="53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Član 6. pravo na život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Član 23. pravo onesposobljene djece na dostojanstven život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Član 24. pravo na zdravlje i liječenje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Član 25. obaveza nadzora radi brige, zaštite i zbrinjavanja tjelesnog ili duševnog zdravlja djete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Član 26. pravo na socijalnu sigurnost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Član 27. pravo na životni standard primjeren tjelesnom, duševnom, duhovnom i moralnom razvoju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Član 28. pravo na obrazovanje na osnovu jednakih mogućnost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Naslov 1" descr=""/>
          <p:cNvPicPr/>
          <p:nvPr/>
        </p:nvPicPr>
        <p:blipFill>
          <a:blip r:embed="rId1"/>
          <a:stretch/>
        </p:blipFill>
        <p:spPr>
          <a:xfrm>
            <a:off x="444600" y="281160"/>
            <a:ext cx="7261200" cy="11872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ica sa invaliditetom i lica ometena u fizičkom ili psihičkom razvoju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lijepe i slabovide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 osob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luhe i nagluhe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 osob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osob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a poremećajima u govoru i glasu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osob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a tjelesnim oštećenjima i trajnim smetnjama u fizičkom razvoju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osob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a smetnjama u psihičkom razvoju (lakog, umjerenog, težeg i teškog stepena)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osobe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a kombin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ov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im smetnjama (višestruko ometen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u razvoju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Naslov 1" descr=""/>
          <p:cNvPicPr/>
          <p:nvPr/>
        </p:nvPicPr>
        <p:blipFill>
          <a:blip r:embed="rId1"/>
          <a:stretch/>
        </p:blipFill>
        <p:spPr>
          <a:xfrm>
            <a:off x="195120" y="-6480"/>
            <a:ext cx="7974000" cy="10130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včana i druga materijalna pomoć</a:t>
            </a:r>
            <a:r>
              <a:rPr b="0" lang="hr-HR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sposobljavanje za život i rad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mještaj u drugu porodicu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mještaj u ustanove socijalne zaštite,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sluge socijalnog i drugog stručnog rada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ućna njega i pomoć u kući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Naslov 1" descr=""/>
          <p:cNvPicPr/>
          <p:nvPr/>
        </p:nvPicPr>
        <p:blipFill>
          <a:blip r:embed="rId1"/>
          <a:stretch/>
        </p:blipFill>
        <p:spPr>
          <a:xfrm>
            <a:off x="212760" y="-6480"/>
            <a:ext cx="7615080" cy="798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142560" y="928800"/>
            <a:ext cx="8072280" cy="55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entri za socijalni rad i/ili općinske službe za poslove socijalne zaštite su prva adresa u traženju i ostvarivanju prava iz socijalne zaštite, zaštite civilnih žrtava rata i zaštite porodica s dje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stupak za ostvarivanje prava po ovom zakonu pokreće se na zahtjev lica kojem je potrebna zaštita ili na zahtjev njegovog zakonskog zastupnik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2-11T09:32:35Z</dcterms:created>
  <dc:creator>Selma Islamović</dc:creator>
  <dc:description/>
  <dc:language>en-US</dc:language>
  <cp:lastModifiedBy>Selma Islamović</cp:lastModifiedBy>
  <dcterms:modified xsi:type="dcterms:W3CDTF">2024-02-05T10:40:28Z</dcterms:modified>
  <cp:revision>95</cp:revision>
  <dc:subject/>
  <dc:title>Postojeći zakonski okvir</dc:title>
</cp:coreProperties>
</file>