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9CC-EF0E-4CFE-8BB2-4D80875E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EED-3996-4229-8802-12EBF149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981-AEEB-4256-82C4-651A55B2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E03-8EC5-4B2C-BE95-14FAEF55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651-3964-4DE7-B19B-A6740D1C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2AF8-6B62-412B-9D1A-EC8BE8C6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61F2-D070-4747-96ED-8A855EE1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F617-8E87-440C-9DED-805FB3A7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6443-9487-4BDA-8A6E-54C5A527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9190-5817-441E-B0BA-1515C958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C3AB-8132-4D17-8D49-A63324A7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11B6-76F9-49BA-9919-D7119D7A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02F6-C2D0-4545-94FE-0A0195A0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45B9-A866-4912-B256-F4300B4D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C3A3-7584-4219-A549-F62CD437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7D32-A982-498A-8198-D274C0CD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7A11-D8A5-4A18-8854-ADE02246E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6F958-E222-4657-9212-432A80097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7F989-012F-475E-8BF9-29068BC3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4F502-ECDB-4C07-9390-30429A3D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9A4F2-E416-44CB-B8AE-82F490D3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2217-BA97-407A-9D8E-D11C170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0614-48DA-464C-AF86-9B583281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E093-9B3C-4DAE-889F-34F2B8F8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DDA38-97AC-4DFC-9B79-59645391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D80FB-D978-42D9-AAB4-17187991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4113-496F-4055-9788-3AF0A009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BF0D2-DEE9-4E04-AAC9-D3EBB01B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A7441-4C8A-4065-BB96-8D14BBDE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FF28-007C-4BA5-8217-71C55BFD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5A349-0DF0-4094-996A-083868CB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6F8C-CAA2-46EA-B19D-AAE7E5F0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9E3E1-1A80-4AE6-8F77-F027AC08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9D4F-CC27-4FF4-A679-D9BD8C0B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30EBB-62DE-4287-B054-DC217D73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8DC40-4B3D-4C55-81E8-B429667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DDA8-9BA2-42B3-9E4B-875828B8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46E8C-2F7C-4CBB-9461-02AF92C8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CECE-12DF-4380-A7D7-5628AC90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80495-D262-4904-9A6B-F5355861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F3CD0-3D4F-4CF6-BA42-347C35AB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4194-311D-4DD2-9568-E6CD997D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65A8-2AEC-49DF-8F13-B70E70BF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DFE0B-A047-4BD5-89C1-6E19FCA9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BDD-AA17-4AA4-B913-598743C1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77F40-BB1C-4F49-939A-C9D87E97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2309C-08FB-4C66-8048-D4EEE7C5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CEA5A-6756-4742-B692-0E9476E0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21C44-BB11-4428-8048-DE1906BB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A1E1-16CC-485C-82A5-0FACE830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4AF8-D9C5-4F6D-A39A-C0CD56D0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6CA9C-795A-482A-8751-7A46603C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60BF3-395C-40BB-884D-1CD0A3B9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A5A29-1227-468F-8CF0-EC291C9A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1AACE-58E9-4D26-B0B4-A0C5E1E8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463-8A33-41EE-88D5-626680A2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ED7E-6500-42B2-9E4A-B5CBFD0F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65A-9B8C-4998-BCB3-A38FA5C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F702-A3A4-4F54-BC6E-9EEC6756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7F46-B1AF-4197-AC25-12E657FA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avougao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Pravougao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2419-4899-4911-AFE1-B97A67A9B46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avougaonik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Pravougaonik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rava linija spajanja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58DF-9717-41EB-AE3F-5DCEBB3E604F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avougao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Pravougao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27A7-54C0-4DA0-84EB-D4BE56B1B30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ugaoni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avougaoni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8B8F-05D0-480A-9CDE-5A1115F90814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avougao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Pravougao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880F-D3D0-483F-BC6F-6F05A64033FE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C:\Users\Selma Islamović\OneDrive\Radna površina\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Okvir za tekst 4"/>
          <p:cNvSpPr/>
          <p:nvPr/>
        </p:nvSpPr>
        <p:spPr>
          <a:xfrm>
            <a:off x="1571760" y="571680"/>
            <a:ext cx="564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Arial"/>
              </a:rPr>
              <a:t>POSTOJEĆI ZAKONSKI OKV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Naslov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321680" cy="835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42920" y="1213920"/>
            <a:ext cx="78580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Prvi korak kada se želi ostvariti pravo na socijalnu pomoć je odlazak u </a:t>
            </a: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lokaln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 nadležni Centar za socijalni rad (CZR). Dokumente koje je neophodno ponijeti u CZR za st</a:t>
            </a: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canje određenih prava su različita u zavisnosti od prava koje se Zakonom može ostvariti</a:t>
            </a: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kon CZR i iskazane potrebe za kategorizacijom djeteta javljate se Vašem nadležnom pedijatru koji će Vam napisati uputnice za svakog specijalistu ljekara koji Vam treba izdati nalaz i mišljenje, a koje Vam stoji u zahtjevu ( to zavisi od dijagnoze kojem će Vas specijalisti uputiti ljekar)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Sljedeći korak koji trebaju roditelji znati da urade da bi se utvrdio stepen invalidnosti kod djeteta je da odu u Institut za medicinsko vještačenje. Institut obavlja poslove medicinskog vještačenja (vještačenje kojim se ocjenjuje definitivno stanje organizma zbog ostvarivanja prava u skladu sa zakonom) iz oblasti: socijalne zaštite, dječije i invalidske zaštite odnosno medicinsko vještačenje (fizičke onesposobljenosti) stupnja tjelesnog oštećenja, potreba tuđe pomoći i njege i ortopedskog dodatka za potrebe socijalne zaštite i boračko-invalidske zašti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Važno je napomenuti da Institut ne odlučuje o pravima iz naprijed navedenih oblasti, već da u svome djelovanju donosi ocjenu, nalaz i mišljenje na osnovu kojeg nadležni organ odlučuje o ostvarivanju prava u skladu s pravnim propisima iz svoje nadležnosti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Naslov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798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0" y="928800"/>
            <a:ext cx="814392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Zdravstvena zaštita, pr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ma Zakonu o zdravstvenoj zaštiti Federacije BiH je sistem društvenih, grupnih i individualnih mjera, usluga i aktivnosti za očuvanje i unapređenje zdravlja, sprečavanje bolesti, rano otkrivanje bolesti, blagovremeno liječenje, te zdravstvenu njegu i rehabilitaciju, kao i primjenu zdravstvenih tehnologi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ditelji djece s posebnim potrebama imaju pravo koristiti usluge Centra za mentalno zdravlje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Naslov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7255080" cy="909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-360" y="1071360"/>
            <a:ext cx="80722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Država u najboljem interesu sve djece obavezna je da obezbijedi obavezno pohađanje i završetak osnovnog i srednjeg obrazovanja u skladu sa mogućnostim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sna i Hercegovina usvojila je veći broj zakona i politika kojima svakom djetetu osigurava pravo na kvalitetno obrazovanje i jednake mogućnosti, ali način i kvaliteta njihove implementacije i dalje je upitan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13320"/>
            <a:ext cx="7238880" cy="44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499680"/>
            <a:ext cx="76960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kvirni zakon o predškolskom, osnovnoškolskom i srednj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školskom obrazovanju propisuje zabranu diskriminacije koja oduzima pravo svakom djetetu na jednak pristup i mogućnost uključenja u odgoj i obrazovanje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razovanje djece s posebnim odgojno-obrazovnim potrebama je od prioritetnog javnog interesa i sastavni je dio obrazovnog sistema što je definirano Zakonom o predškolskom odgoju i obrazovanju, Zakonom o osnovnom odgoju i obrazovanju i Zakonom o srednjem obrazov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ju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Naslov 1" descr=""/>
          <p:cNvPicPr/>
          <p:nvPr/>
        </p:nvPicPr>
        <p:blipFill>
          <a:blip r:embed="rId1"/>
          <a:stretch/>
        </p:blipFill>
        <p:spPr>
          <a:xfrm>
            <a:off x="450720" y="-146160"/>
            <a:ext cx="7255080" cy="865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0" y="1142640"/>
            <a:ext cx="814392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cjenu sposobnosti djece pri upisu u redovnu školu obavlja komisija sastavljena od pedagoga ili pedagoga-psihologa i nastavnika razredne nastav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čenici sa smetnjama i poteškoćama u razvoju upisuju se u redovnu školu na osnovu nalaza i mišljenja komisije koja je procijenila sposobnosti djeteta pri upisu u školu i rješenja o kategorizaciji djetet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Naslov 1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9017280" cy="835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214200" y="785880"/>
            <a:ext cx="64296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slov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Kako bi dijete imalo cjelovitu potporu u svom ranom obrazovanju bitno je uspostaviti zajedništvo između roditelja i 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škol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te kontinuiranu komunikaciju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tnerstvo između 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nastavnik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i roditelja jedan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 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od najbitnijih razloga za uspješnu inkluziju djece s teškoćama u 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razvoj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 Partnerstvo se treba temeljiti na obostranoj volji i povjerenju. Roditelji i odgojitelji imaju isti cilj - dijete i njegov uspješan rast i razv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o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3" descr="https://ip.index.hr/remote/bucket.index.hr/b/index/images2/886cc93335366694d440d0c0e83c274b.jpg?width=765"/>
          <p:cNvPicPr/>
          <p:nvPr/>
        </p:nvPicPr>
        <p:blipFill>
          <a:blip r:embed="rId2"/>
          <a:stretch/>
        </p:blipFill>
        <p:spPr>
          <a:xfrm>
            <a:off x="0" y="0"/>
            <a:ext cx="82152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Okvir za tekst 4"/>
          <p:cNvSpPr/>
          <p:nvPr/>
        </p:nvSpPr>
        <p:spPr>
          <a:xfrm>
            <a:off x="2071800" y="64296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HVALA NA PAŽNJ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280"/>
            <a:ext cx="7238880" cy="51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642960"/>
            <a:ext cx="723888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tnaestogodišnja Marija Beribaka iz Vojkovića voli filmove, humorističke serije i kompjuterske igrice. Vesela je osoba i uvijek je spremna pomoći majci u kućnim poslovima. Voli da uči, ali do škole može doći samo uz pomoć svoje starije sestre Milice. Put do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škole, sestre opisuju i u svom filmu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s://youtu.be/2oPhdvOYqO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Naslov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213920"/>
            <a:ext cx="7238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Konvencija o pravima djete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Konvencija o pravima osoba sa invaliditet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Pravilnik o osnovnoškolskom odgoju i obrazovanju  učenika sa teškoćama u razvoj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Zakon o socijalnoj skrb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dodatni benefiti – produženi roditeljski dopust, vještačenje težine oštećenja zdravlja, dječiji doplat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Naslov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7255080" cy="1000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1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sigurava prava jednakosti svih ljudskih bić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2000160"/>
            <a:ext cx="8143920" cy="3592440"/>
          </a:xfrm>
          <a:prstGeom prst="rect">
            <a:avLst/>
          </a:prstGeom>
          <a:ln w="0">
            <a:noFill/>
          </a:ln>
        </p:spPr>
      </p:pic>
      <p:sp>
        <p:nvSpPr>
          <p:cNvPr id="231" name="Okvir za tekst 4"/>
          <p:cNvSpPr/>
          <p:nvPr/>
        </p:nvSpPr>
        <p:spPr>
          <a:xfrm>
            <a:off x="285840" y="54291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EDNAKOST: pružiti ljudima istu st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AVEDNOST: pošteno je raspo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Naslov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Zbog čestih povreda prava djeteta Generalna skupština Ujedinjenih naroda  usvojila je “Konvenciju o pravima djeteta”, a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novembar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1989. godine,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se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u cijelom  svijetu obilježava  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Međunarodni dan dječjih prav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, koji je potaknula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rganizacija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U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jedinjenih naroda.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Povelja ukazuje na njen smjer, a to je: “Čovječanstvo duguje djeci najbolje što ima.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aslov 1" descr=""/>
          <p:cNvPicPr/>
          <p:nvPr/>
        </p:nvPicPr>
        <p:blipFill>
          <a:blip r:embed="rId1"/>
          <a:stretch/>
        </p:blipFill>
        <p:spPr>
          <a:xfrm>
            <a:off x="244440" y="133200"/>
            <a:ext cx="7461360" cy="658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071360"/>
            <a:ext cx="72388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6. pravo na život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3. pravo onesposobljene djece na dostojanstven život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4. pravo na zdravlje i liječenj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5. obaveza nadzora radi brige, zaštite i zbrinjavanja tjelesnog ili duševnog zdravlja djete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6. pravo na socijalnu sigurnost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7. pravo na životni standard primjeren tjelesnom, duševnom, duhovnom i moralnom razvoju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8. pravo na obrazovanje na osnovu jednakih mogućnost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Naslov 1" descr=""/>
          <p:cNvPicPr/>
          <p:nvPr/>
        </p:nvPicPr>
        <p:blipFill>
          <a:blip r:embed="rId1"/>
          <a:stretch/>
        </p:blipFill>
        <p:spPr>
          <a:xfrm>
            <a:off x="444600" y="281160"/>
            <a:ext cx="7261200" cy="1187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ca sa invaliditetom i lica ometena u fizičkom ili psihičkom razvoju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lijepe i slabovide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osob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luhe i nagluhe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osob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sob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poremećajima u govoru i glasu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sob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tjelesnim oštećenjima i trajnim smetnjama u fizičkom razvoju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sob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smetnjama u psihičkom razvoju (lakog, umjerenog, težeg i teškog stepena)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sob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kombin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v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im smetnjama (višestruko ometen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u razvoju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Naslov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7974000" cy="1013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včana i druga materijalna pomoć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sposobljavanje za život i rad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mještaj u drugu porodicu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mještaj u ustanove socijalne zaštite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luge socijalnog i drugog stručnog rada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ućna njega i pomoć u kuć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Naslov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615080" cy="798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42560" y="928800"/>
            <a:ext cx="807228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entri za socijalni rad i/ili općinske službe za poslove socijalne zaštite su prva adresa u traženju i ostvarivanju prava iz socijalne zaštite, zaštite civilnih žrtava rata i zaštite porodica s dje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stupak za ostvarivanje prava po ovom zakonu pokreće se na zahtjev lica kojem je potrebna zaštita ili na zahtjev njegovog zakonskog zastupnik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1T09:32:35Z</dcterms:created>
  <dc:creator>Selma Islamović</dc:creator>
  <dc:description/>
  <dc:language>en-US</dc:language>
  <cp:lastModifiedBy>Selma Islamović</cp:lastModifiedBy>
  <dcterms:modified xsi:type="dcterms:W3CDTF">2024-02-05T10:40:28Z</dcterms:modified>
  <cp:revision>95</cp:revision>
  <dc:subject/>
  <dc:title>Postojeći zakonski okvir</dc:title>
</cp:coreProperties>
</file>